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8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9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C118-98D7-4B5F-85D7-563FCC70ED0C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457344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oliennummernplatzhalter 3"/>
          <p:cNvSpPr/>
          <p:nvPr/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457344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oliennummernplatzhalter 3"/>
          <p:cNvSpPr/>
          <p:nvPr/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138A-5812-4655-86E1-63C210CCDF57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0DCEF015-3CF7-4B4A-B1C1-D78B414B058F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39680" y="1411200"/>
            <a:ext cx="70344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39680" y="2106720"/>
            <a:ext cx="703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756480" y="660204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" name="Text Box 19"/>
          <p:cNvSpPr/>
          <p:nvPr/>
        </p:nvSpPr>
        <p:spPr>
          <a:xfrm>
            <a:off x="7893000" y="6602400"/>
            <a:ext cx="9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Seite </a:t>
            </a:r>
            <a:fld id="{E46A9ED4-B5E8-48C8-B43C-F262A98AB2C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" name="Picture 23" descr="Weltkugel_klein_neu.gif                                        0005A183jeany                          BB53F533: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65040" y="6600600"/>
            <a:ext cx="2895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Times New Roman"/>
              </a:rPr>
              <a:t>As at: 21/09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Grafik 16" descr="gizlogo-standard-rgb.gif"/>
          <p:cNvPicPr/>
          <p:nvPr/>
        </p:nvPicPr>
        <p:blipFill>
          <a:blip r:embed="rId4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53" name="Grafik 7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Grafik 8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3EFFDB46-032F-4FE5-869B-F196CE680446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3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Z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000" spc="-1" strike="noStrike">
                <a:solidFill>
                  <a:srgbClr val="6e6452"/>
                </a:solidFill>
                <a:latin typeface="Arial Narrow"/>
              </a:rPr>
              <a:t>As at: 21/09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4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Grafik 8" descr=""/>
          <p:cNvPicPr/>
          <p:nvPr/>
        </p:nvPicPr>
        <p:blipFill>
          <a:blip r:embed="rId2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E2D4D49B-6E87-4149-8B80-04C7E697C289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ftr" idx="5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As at: 21/09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99" name="Grafik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19240"/>
          </a:xfrm>
          <a:prstGeom prst="rect">
            <a:avLst/>
          </a:prstGeom>
          <a:ln w="0">
            <a:noFill/>
          </a:ln>
        </p:spPr>
      </p:pic>
      <p:pic>
        <p:nvPicPr>
          <p:cNvPr id="100" name="Grafik 7" descr=""/>
          <p:cNvPicPr/>
          <p:nvPr/>
        </p:nvPicPr>
        <p:blipFill>
          <a:blip r:embed="rId4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C504-1DCA-47B0-984D-656DAFEC671E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659587B8-9097-43F2-A4AA-1A9A953D1561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1" name="Picture 20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6" name="Picture 20" descr="Weltkugel_klein_neu.gif                                        0005A183jeany                          BB53F533: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147" name="Grafik 27" descr="gizlogo-standard-rgb.gif"/>
          <p:cNvPicPr/>
          <p:nvPr/>
        </p:nvPicPr>
        <p:blipFill>
          <a:blip r:embed="rId4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39680" y="1411200"/>
            <a:ext cx="70344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039680" y="2106720"/>
            <a:ext cx="703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Grafik 27" descr="gizlogo-standard-rgb.gif"/>
          <p:cNvPicPr/>
          <p:nvPr/>
        </p:nvPicPr>
        <p:blipFill>
          <a:blip r:embed="rId2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52640" y="990360"/>
            <a:ext cx="75578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Plan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irane aktivnosti 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GIZ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-a,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su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finan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sirane od 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EU 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 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39680" y="1849320"/>
            <a:ext cx="77234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Cilj je da 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poslije katastrofalnih popla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ponovno uspostavi i unaprijedi konkurentnosti odabranih poslovnih lokaliteta i MSP-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I</a:t>
            </a:r>
            <a:r>
              <a:rPr b="1" lang="bs-BA" sz="1600" spc="-1" strike="noStrike">
                <a:solidFill>
                  <a:srgbClr val="c80f0f"/>
                </a:solidFill>
                <a:latin typeface="Arial"/>
              </a:rPr>
              <a:t>nicijalna</a:t>
            </a: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 </a:t>
            </a:r>
            <a:r>
              <a:rPr b="1" lang="bs-BA" sz="1600" spc="-1" strike="noStrike">
                <a:solidFill>
                  <a:srgbClr val="c80f0f"/>
                </a:solidFill>
                <a:latin typeface="Arial"/>
              </a:rPr>
              <a:t>faza u trajanju od</a:t>
            </a: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 12 m</a:t>
            </a:r>
            <a:r>
              <a:rPr b="1" lang="bs-BA" sz="1600" spc="-1" strike="noStrike">
                <a:solidFill>
                  <a:srgbClr val="c80f0f"/>
                </a:solidFill>
                <a:latin typeface="Arial"/>
              </a:rPr>
              <a:t>jeseci</a:t>
            </a: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: </a:t>
            </a:r>
            <a:r>
              <a:rPr b="0" lang="bs-BA" sz="1600" spc="-1" strike="noStrike">
                <a:solidFill>
                  <a:srgbClr val="c80f0f"/>
                </a:solidFill>
                <a:latin typeface="Arial"/>
              </a:rPr>
              <a:t>podrška u obnovi (davanje </a:t>
            </a:r>
            <a:r>
              <a:rPr b="1" lang="bs-BA" sz="1600" spc="-1" strike="noStrike">
                <a:solidFill>
                  <a:srgbClr val="c80f0f"/>
                </a:solidFill>
                <a:latin typeface="Arial"/>
              </a:rPr>
              <a:t>grantova</a:t>
            </a:r>
            <a:r>
              <a:rPr b="0" lang="bs-BA" sz="1600" spc="-1" strike="noStrike">
                <a:solidFill>
                  <a:srgbClr val="c80f0f"/>
                </a:solidFill>
                <a:latin typeface="Arial"/>
              </a:rPr>
              <a:t> odabranim MSP-a, u drvnom, metalnom i sektoru agrobiznisa, kako bi se nadoknadile štete </a:t>
            </a:r>
            <a:r>
              <a:rPr b="0" lang="en-US" sz="1600" spc="-1" strike="noStrike">
                <a:solidFill>
                  <a:srgbClr val="c80f0f"/>
                </a:solidFill>
                <a:latin typeface="Arial"/>
              </a:rPr>
              <a:t>&amp;</a:t>
            </a:r>
            <a:r>
              <a:rPr b="0" lang="bs-BA" sz="1600" spc="-1" strike="noStrike">
                <a:solidFill>
                  <a:srgbClr val="c80f0f"/>
                </a:solidFill>
                <a:latin typeface="Arial"/>
              </a:rPr>
              <a:t> gubici</a:t>
            </a:r>
            <a:r>
              <a:rPr b="0" lang="en-US" sz="1600" spc="-1" strike="noStrike">
                <a:solidFill>
                  <a:srgbClr val="c80f0f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Oblasti u kojima će se provoditi aktivnost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Jačanje općinskih kapaciteta za upravljan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škole za lokalni ekonomskI razvoj /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, implement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ira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dern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e metode javnog upravljanj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Uspostavljanje Javno privatnog dijalog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implementirati platforme dijalog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jačati tržišno orijentisan i potražnjom vođen razvoj lokalnih ekonomij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Unapređenje lanca vrijednost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omo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visati lance vrijednosti i koristiti inovativne tehnologi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dž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m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€ /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Vrijem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: ~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– 2017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. godina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dodatnih općin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t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rebaju biti određene naknadno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4" name="Datumsplatzhalter 1"/>
          <p:cNvSpPr/>
          <p:nvPr/>
        </p:nvSpPr>
        <p:spPr>
          <a:xfrm>
            <a:off x="679320" y="6581880"/>
            <a:ext cx="6991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2640" y="990360"/>
            <a:ext cx="75578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U toku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rogram za lokalnu samoupravu i ekonomski razvoj u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BiH (ProLocal)</a:t>
            </a:r>
            <a:br>
              <a:rPr sz="2400"/>
            </a:b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39680" y="1849320"/>
            <a:ext cx="77234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Cilj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konkurentnost odabranih poslovnih lokaliteta i njihovih MSP-a je unaprijeđen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Oblasti u kojima će se provoditi aktivnost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Jačanje kapaciteta upravljanja 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općina, kako bi se podržao ekonomski razvoj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Saradnja između javnog i privatnog sektora,kako bi se ojačala konkurentnost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iranje inkluzivnih poslovnih modela uz lance vrijednosti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dže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€ /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Vrijeme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janua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2013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decembar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. godine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općin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ozarska Dubica, Srbac,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Gradiška, Laktaši, Teslić, Tešanj, Žepče, Jablanica, Konjic, Prozor-Rama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7" name="Datumsplatzhalter 1"/>
          <p:cNvSpPr/>
          <p:nvPr/>
        </p:nvSpPr>
        <p:spPr>
          <a:xfrm>
            <a:off x="679320" y="6581880"/>
            <a:ext cx="6991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6:32:57Z</dcterms:created>
  <dc:creator>Michael Gajo</dc:creator>
  <dc:description/>
  <cp:keywords>GIZ-Leerfolie</cp:keywords>
  <dc:language>en-US</dc:language>
  <cp:lastModifiedBy>operater</cp:lastModifiedBy>
  <cp:lastPrinted>2005-12-21T12:33:01Z</cp:lastPrinted>
  <dcterms:modified xsi:type="dcterms:W3CDTF">2014-10-21T09:08:19Z</dcterms:modified>
  <cp:revision>777</cp:revision>
  <dc:subject/>
  <dc:title>Folie 1</dc:title>
</cp:coreProperties>
</file>